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66EF-B474-441C-9946-7B4ABFF7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BCCF-D578-4A7E-98E7-91E4E717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E97B-0585-4C2F-9B5F-CEEA20A3E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5458-5C6C-4058-A5B9-3F924C3DDB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41320-EBF3-4993-B54B-31B7D5E70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31D25-9E8B-4C2A-B10D-E23FCFDE1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3D075-2AF1-4AB7-8DE1-42281CE48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7C3C-BECC-4343-8414-EE6E1699C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3E1E-CB97-450E-973E-CFD90599FF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29755-7935-45B1-8545-E1F5E16CC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C1CF3-5E89-4E6D-A220-2339D43DF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1A975-197F-4710-AEA7-36A61F9B6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FB01C-EA7F-4DED-A3A2-3FD87E30F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D0034-58EB-4C16-B8B8-7D6E125A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74AEC-3436-4844-BD06-7CE6E6521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43898-BDF2-448B-86B4-76859F94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F684E-261E-45D1-9AC3-1475C420E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9FE5-8870-4E2C-AC1E-3A8F04B54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F9CC-2B3A-4A43-82B7-A0477284F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05B4C-B012-49A6-947D-E988AA08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027A5-F2B8-436C-88C2-DF23541DE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F69A-72BE-4D27-80B2-A5F385AF1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3081-C8E5-4212-A8E9-10336E2F2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8BB-8CD4-4BCE-98AE-A338CAEF8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FE5A9-609E-403A-A5A1-C48170514D54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69782-98EE-4070-A0AC-5690F9656A7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14D25-F5BC-4668-8B90-E507BF4DF69C}" type="datetime">
              <a:rPr b="0" lang="en-US" sz="1200" spc="-1" strike="noStrike">
                <a:solidFill>
                  <a:srgbClr val="000000"/>
                </a:solidFill>
                <a:latin typeface="Garamond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F17DB-5EED-4D14-9895-E1804AE7C11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676520"/>
            <a:ext cx="7623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6633"/>
                </a:solidFill>
                <a:latin typeface="Garamond"/>
              </a:rPr>
              <a:t>Criteria for Tenure: Pillars of Academia</a:t>
            </a: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5000"/>
            </a:br>
            <a:br>
              <a:rPr sz="5000"/>
            </a:b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Turgay Korkmaz</a:t>
            </a:r>
            <a:br>
              <a:rPr sz="1400"/>
            </a:br>
            <a:r>
              <a:rPr b="1" lang="en-US" sz="1400" spc="-1" strike="noStrike">
                <a:solidFill>
                  <a:srgbClr val="006633"/>
                </a:solidFill>
                <a:latin typeface="Garamond"/>
              </a:rPr>
              <a:t>CS-UTSA</a:t>
            </a:r>
            <a:br>
              <a:rPr sz="5000"/>
            </a:br>
            <a:r>
              <a:rPr b="1" lang="en-US" sz="1200" spc="-1" strike="noStrike">
                <a:solidFill>
                  <a:srgbClr val="000000"/>
                </a:solidFill>
                <a:latin typeface="Garamond"/>
              </a:rPr>
              <a:t>From many sources and friends… thanks to all…</a:t>
            </a:r>
            <a:endParaRPr b="0" lang="en-US" sz="1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TextBox 1"/>
          <p:cNvSpPr/>
          <p:nvPr/>
        </p:nvSpPr>
        <p:spPr>
          <a:xfrm>
            <a:off x="5943600" y="5410080"/>
            <a:ext cx="2941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Promotion to Full Profess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"/>
          <p:cNvSpPr/>
          <p:nvPr/>
        </p:nvSpPr>
        <p:spPr>
          <a:xfrm>
            <a:off x="152280" y="152280"/>
            <a:ext cx="9296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cs.utsa.edu/~korkmaz/ak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110CD-5571-4FA9-A587-9741525DF1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stablishing Identity in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be too ambitious. Be realisti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y focus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change your general direction too mu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be over-optimistic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fter 3-4 years, you won’t have a much better backgroun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ook at past, how much you progressed is a good indicator on how much you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 on 1 major and 1 minor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ive your best to what you d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diverge too much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need a name on a certain topic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TextBox 1" descr=""/>
          <p:cNvPicPr/>
          <p:nvPr/>
        </p:nvPicPr>
        <p:blipFill>
          <a:blip r:embed="rId1"/>
          <a:stretch/>
        </p:blipFill>
        <p:spPr>
          <a:xfrm>
            <a:off x="7394400" y="4041720"/>
            <a:ext cx="109728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1143D-90AF-462C-AACE-3DAFD0FDE79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riting Paper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73040" y="914040"/>
            <a:ext cx="8305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uccessful Academicians are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Good Wri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oi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you have something to sa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story must have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l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-by-step (as if you are telling it to your friend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asy to follow organiz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 subsections, bold paragraph heads, some itemize, etc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clear, us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examp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ers won’t read/understand all the details. Do you understand others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562680" indent="-2732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ictures, graph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 u="sng">
                <a:solidFill>
                  <a:srgbClr val="ff0000"/>
                </a:solidFill>
                <a:uFillTx/>
                <a:latin typeface="Arial"/>
              </a:rPr>
              <a:t>Write for the reader</a:t>
            </a: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; not for yourself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Response letter when you get re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E0017-6C9B-48DA-A580-48D44443981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pers - Pres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chnical motivat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before introducing techniqu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telligent moves that hints &amp; leads to the proposed techniq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cite the reader before you introduce the (usually boring) technical stuf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vid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tuition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for technical materi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y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your technique wor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at things mean in practice, intuition in easy te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th formulas are nice but useless without a s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FA20C-397E-493B-8AD9-4E17ED3EB8F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pers - Pres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oversell - no embarrassing claim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 reviewers are people who (will) know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be too humble ei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ant your paper to be accep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prove trivial results in exhaustive det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make it too den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viewers dislike small fonts, thin margin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rt appendix is OK, only for important materi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too sparse eith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passive tense. Use Active … “We ..” who is W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F1CE0-C60F-43D4-B1BB-7178ECD53BA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pers - Presentation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ist your contribu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’t expect the reader guess i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ighlight the most impressive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lish wel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yle, appearance, spelling, gramma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Reviewers don’t like half-baked pap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don’t spend time on a paper with spelling err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et feedback, listen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C387-4211-472A-91B6-CBEA9B897DE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apers - Related Work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common critics by referees: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pare with ..”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ive credit to other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64620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o might be a review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sure you cover the important work in the area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just say .. Did this that… give insights, compare, classify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e flow going wel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15A1-CFF5-42FF-892B-A4855D84EFB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ere to Publi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im </a:t>
            </a: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rovably top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venues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itially maybe not so good o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ut then improve quickly (you need quality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eck the “impact factor”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 objective criter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mong candidate journals, choose the one with higher impact fact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est: Same article published in different journ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fter ~2 years, highest-impact journal received 100 times more citations than the lowest 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t with the journa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F55A4-8EF7-474E-98E8-42B1D241718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ere to Publis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4582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some fields, conferences are importa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ven in that case, don’t ignore journa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ournals may be easier – chance to respond/revi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need 1-2 very high-quality pap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dentify your best bets and focus on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produce some OK ones in the mean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me reviewers are rud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take it personal, that’s just the way they 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blame if they didn’t understand. Make it clearer. If she did, probably someone else also wi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get discouraged if you get rej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how the system work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Grant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285A2-29C1-4D39-B876-E5913754EA0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: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352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dentify the right places to send a grant propo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ck where people got their gra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You can access grant information for your depart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grant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incipal Investigator, co-investigators, agency, mone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ore valuable if PI, or significant co-PI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Major resources: NSF, NIH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SF Career: BEST VALU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Average study time: ~165 hou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76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Everyone works so hard, but you are competing with junior faculty like yo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A862F-C932-45CE-A44F-98917ECA81F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Official Timelin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nish your PhD, and get an academic job in 20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nure clock starts in Fall 202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Mostly you are your own for 5 year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nvest/spend what is needed to make you successful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nual merit evaluati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Good feedback but not used in tenure evalu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87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, mid-evaluation (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pre-tenure evaluation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ept. faculty, chair, dean…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arly feedback; But termination is a possi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of 5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year, tenure evalu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Reviewers, Dept. faculty, chair, college, dean, university, provost, presid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700" spc="-1" strike="noStrike">
                <a:solidFill>
                  <a:srgbClr val="000000"/>
                </a:solidFill>
                <a:latin typeface="Arial"/>
              </a:rPr>
              <a:t>Promote with tenur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or Terminat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Now your legal rights!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4"/>
          <p:cNvSpPr/>
          <p:nvPr/>
        </p:nvSpPr>
        <p:spPr>
          <a:xfrm>
            <a:off x="76320" y="611820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cs.utsa.edu/~korkmaz/ak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3A503-56D6-47EF-88B6-9151627DD3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unding: Resour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, NASA, ONR, Army Office of Re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it is importa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pplied &amp; developmen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nnections help for some c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E ECPI, ONR Young Investigator, etc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RPA, DO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ugh for beginners, might have early career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te agencies (fit &amp; connec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ecial grants for minority, black, … Institut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itutes, centers (look aroun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ies (not much money, connection is everyth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71858-B529-489A-8EB3-2BD8DEE92F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S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494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nd the program for your communit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Best fit, tough competition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Your Career proposal will likely go her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erdisciplinary programs (requires collaboration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areer is possibl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ultiple program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cial and emerging program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May fit your research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familiar with NSF website &amp; fastlan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960E-AB6B-4DDC-AD3C-3E0C0B0E444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SF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tact your program offic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with an impressive research agend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hey may help in border cas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5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7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Get yourself invited to a proposal review pan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to introduce yourself &amp; learn the system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5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 a good job there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2451E-19D0-4C02-8F3F-5BA47931E50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good propos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03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a story (visi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volves 1 to 3 applic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gra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search &amp; application; theory &amp; practi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ows preliminary resul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ill has things to do (believable pla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akes a lot of time to 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olished, has smooth flo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A70FA-506A-405C-9864-D3AA89BEDA4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good propos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ral important side-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udget preparation, justific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Get help from research offic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rastructur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upport letters (applicable to some programs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Other details that you never imagined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sed on your backgrou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Best chance when you show your preliminary resul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9E69C-7F4F-4DF6-A9F5-6DF46B5DEA6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 good proposal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F wants an education pla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riting a good education section is simp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previous proposals, you will get better ide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 good education plan won’t earn you the grant, but a bad one will kill your chan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vers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-t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an 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B1189-595B-4B80-8102-485DF77F59A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on Critics to Propos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80520" y="1417320"/>
            <a:ext cx="85345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ion vs. Foc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ambition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Too ambitiou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o narrow”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Too broa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integration between proposed tasks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blems/goals are not clear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w impact potential, broader impact is not cl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ring area –revise it with a more appealing application (using the same technical materi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connection between theory and pract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ga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well-organized (not enough time sp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2683-0487-4027-9D55-47A9EF9EA874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mmon Critics to Proposal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ear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earch Plan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tasks are not clea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ime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preliminary resul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valuation pl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validation of results, no success meas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technical challe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ed projects not cited/understo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w the proposed approach relates &amp; advances the state-of-the-a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ready d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 credential &amp; publication in the area is wea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involvement of minor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novelty in education plan (in NSF CARE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clear dissemination plans. Who/how will use your results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13190-6E85-4AFE-9546-8FFB2F74997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Problems with Proposal Reviewers</a:t>
            </a: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80880" y="1645920"/>
            <a:ext cx="8382240" cy="437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ll the reviewers are experts (most ar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SF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-3 experts in your field, 1-2 in the general field, 1 in a related field – e.g., scientists looking for something interesting/use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E - Do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-2 experts, 2-3 in the general field, 1-2 in a related field – e.g., scientists/engineers looking for solutions to DOE - DoD problem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Advise/Graduate Student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subTitle"/>
          </p:nvPr>
        </p:nvSpPr>
        <p:spPr>
          <a:xfrm>
            <a:off x="838080" y="45716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s is also part of your teaching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B7C10-DDB7-4147-91ED-19B6132276F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should you do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83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nure process is like raising your baby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tenure clock starts, you get a bab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lot to do before the baby was bo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ll your pipeline with research papers, ideas, etc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Be part of a research commun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uch more to do after the baby was born</a:t>
            </a:r>
            <a:r>
              <a:rPr b="1" lang="en-US" sz="19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 (excellent) - 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ing (above 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vice (averag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factor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Needs and policies of your Universit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Be collegial, scholar, honest, ethical, respectful, active, effective, …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Make friends (be natural) and fit into your dept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rn what is expected by your department/colle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k chair, senior peo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arn previous ca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76320" y="6118200"/>
            <a:ext cx="929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ttp://www.cs.utsa.edu/~korkmaz/ak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rrow: Curved Left 1"/>
          <p:cNvSpPr/>
          <p:nvPr/>
        </p:nvSpPr>
        <p:spPr>
          <a:xfrm>
            <a:off x="4648320" y="3048120"/>
            <a:ext cx="228600" cy="457200"/>
          </a:xfrm>
          <a:custGeom>
            <a:avLst/>
            <a:gdLst>
              <a:gd name="textAreaLeft" fmla="*/ 30600 w 228600"/>
              <a:gd name="textAreaRight" fmla="*/ 198000 w 228600"/>
              <a:gd name="textAreaTop" fmla="*/ 92880 h 457200"/>
              <a:gd name="textAreaBottom" fmla="*/ 33588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3453680"/>
                <a:lnTo>
                  <a:pt x="5400" y="21321"/>
                </a:lnTo>
                <a:lnTo>
                  <a:pt x="0" y="18900"/>
                </a:lnTo>
                <a:lnTo>
                  <a:pt x="5400" y="15921"/>
                </a:lnTo>
                <a:lnTo>
                  <a:pt x="5400" y="17271"/>
                </a:lnTo>
                <a:arcTo wR="21600" hR="8775" stAng="3453680" swAng="-3236521"/>
                <a:lnTo>
                  <a:pt x="21343" y="10125"/>
                </a:lnTo>
                <a:arcTo wR="21600" hR="8775" stAng="-217159" swAng="-5182841"/>
                <a:close/>
              </a:path>
              <a:path fill="darkenLess" w="21600" h="21600">
                <a:moveTo>
                  <a:pt x="0" y="0"/>
                </a:moveTo>
                <a:arcTo wR="21600" hR="8775" stAng="-5400000" swAng="5400000"/>
                <a:lnTo>
                  <a:pt x="21600" y="11475"/>
                </a:lnTo>
                <a:arcTo wR="21600" hR="8775" stAng="0" swAng="-217159"/>
                <a:lnTo>
                  <a:pt x="21343" y="10125"/>
                </a:lnTo>
                <a:arcTo wR="21600" hR="8775" stAng="-217159" swAng="-5182841"/>
                <a:close/>
              </a:path>
            </a:pathLst>
          </a:custGeom>
          <a:solidFill>
            <a:srgbClr val="cc9900"/>
          </a:solidFill>
          <a:ln w="25560">
            <a:solidFill>
              <a:srgbClr val="956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81D149-D92C-41B9-B59A-E547702470F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Mentor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4582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nd  “very good" students as early as possib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proactive. Don’t wait students come to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ake sure he/she is really goo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im for PhD by the end of the 5th yea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 roles of an advisor include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ovide guidance, but also give freed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your students to be part of research commun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financial supp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lp your students even after gradu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tor other PhD students, have them pass candidacy, graduate MS students,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F29D6-BB56-41F3-9951-17928F98EC6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ice to Advis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late the grad students as individu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t as anonymous research assistants or tickets to tenu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ork with all and value their effor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 your students personally and professionall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forget, you were a grad student once upon a time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4"/>
          <p:cNvSpPr/>
          <p:nvPr/>
        </p:nvSpPr>
        <p:spPr>
          <a:xfrm>
            <a:off x="4495680" y="4648320"/>
            <a:ext cx="3581640" cy="2209680"/>
          </a:xfrm>
          <a:prstGeom prst="irregularSeal1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don’t rely on studen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or expect too mu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52FC-0C61-46D4-9766-6DB13564434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acting With Stud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l have different style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gular meetings and informal meeting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ong-term and short-term goa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n-win situation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opics you both are interested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ive constructive feedbac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nder dif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cess-oriented vs Goal-orien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en are from Mars, Women are from Venus by John Gr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Collaboration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8E883-D1F0-476A-8946-D806932D097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labo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with peopl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omplementing each other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Don’t change your area too much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 with hard working people with funding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Avoid lazy ones with no prior fundi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omething sounds prom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ork hard to fully develop it, and present a fully thought stor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something doesn't sound promis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It probably isn't, don’t jump on all the collaboration possibiliti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’t jump to a completely new are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2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art new things only if you can reuse some of your old materials where you have some credibilit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A0F3-96A1-4692-8A9A-7AF525782BA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llaborat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be over-protective of your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elling your soon-to-be-published ideas may be good for netwo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efer your published work, if strong enoug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disciplinary research can be rewarding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know what you are doing, or if you know how to sell 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therwise, it is time-consuming and doesn’t attract too much attention from your pee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it if you think you can bring money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 hot field does not necessarily bring you money. It is hot for everyon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4746F-8E0E-46E7-B62B-637B27CE0B1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formal Mentor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nd a mentor that you can tal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good mento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ositive-minde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elpfu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s high opinion on your research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ruin his/her opinion on your research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e professional, natural, don’t go over-board (not “too too” close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Recommendation Letter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98DEF-D6D4-4615-8311-830FF1A16B1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your community sees you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498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etters are extremely importan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 need good letter writers: Plan ahead!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will provide 6-8 names, your department will come up with 6-8 names 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(references from your paper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epare a list of 10 candidate names n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 your are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your work and/or you or your previous advis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parable or better univers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etworking networkin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C48D-944E-4748-B501-5CAE59791B7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066680"/>
            <a:ext cx="83818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Candidates for Letter Wri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their papers, web pages, attend their talks, ask questions during/after talk, request information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yourself know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 good research, give good talks, publish in good places, prepare up-to-date web pages, send e-mai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nteract with people and their contac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OK to talk about your research/yourself: This is how it works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’t be too pushy but don’t be shy ei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e ready for “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o what are you working on?"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Slide Number Placeholder 3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7A94B-E390-4F47-AF28-1866745FAFD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2133720" y="533520"/>
            <a:ext cx="6933960" cy="58672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2"/>
          <a:stretch/>
        </p:blipFill>
        <p:spPr>
          <a:xfrm>
            <a:off x="5105520" y="2514600"/>
            <a:ext cx="2747880" cy="2057400"/>
          </a:xfrm>
          <a:prstGeom prst="rect">
            <a:avLst/>
          </a:prstGeom>
          <a:ln w="0">
            <a:noFill/>
          </a:ln>
        </p:spPr>
      </p:pic>
      <p:sp>
        <p:nvSpPr>
          <p:cNvPr id="101" name="TextBox 12"/>
          <p:cNvSpPr/>
          <p:nvPr/>
        </p:nvSpPr>
        <p:spPr>
          <a:xfrm>
            <a:off x="-228600" y="914400"/>
            <a:ext cx="2689200" cy="56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#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d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u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# phd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ege. 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fes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B94BC-80E5-4534-92D9-68684877856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Networking (cont’d)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6840" y="1142640"/>
            <a:ext cx="8534520" cy="49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change manuscripts white papers (if natur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 4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&amp; 5</a:t>
            </a:r>
            <a:r>
              <a:rPr b="0" lang="en-US" sz="3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year, attend more conferen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ure evaluation starts end of 5t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et &amp; discuss in a confer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-up by sending em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vite them to your schoo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tinguished speaker tal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vide services to your communit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view papers, volunteer for conf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Teaching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33E14-44F5-4FD1-B1DB-92FEEFFFFB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assroom Teaching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udent teaching evaluation sc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mportant, the only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olid criter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you get bad scores, seek hel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st improve over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bove average is f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wo independent faculty evalu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iculum develop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nd simple/effective ways to extend the curriculu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n't over-spend your tim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on improving teaching evaluations on the same set of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80000"/>
              </a:lnSpc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ffer a few different courses, special topic cour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a book on how to teach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5"/>
          <p:cNvSpPr/>
          <p:nvPr/>
        </p:nvSpPr>
        <p:spPr>
          <a:xfrm>
            <a:off x="6858000" y="124920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organized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approachable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f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 Interactiv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57419-D840-48CB-9996-0839222FCB98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Advise/mentor student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scussed in research par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blications with students is importan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ffer independent stud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rganize weekly seminar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Servic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64B19-8643-489D-A84F-6B615FBBBE1A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Internal Serv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You will be a member in various committe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Not much work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If you do what you are asked to do, you are fin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ttend all your committee meet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ime, respon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 proactive in something (not all things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aculty meeting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Don’t jump on every issu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Learn the culture in your dep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2903-A4B6-419D-87B6-A971E17AB84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ternal service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what will benefit you most (for getting letters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committee member or reviewer in top conferences, journals, NSF Proposal review pan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edi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Visibil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xperience and knowled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ood contact/reference li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Community service is valu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-12 edu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cial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Time to submit your tenure case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DF086-57DE-4F92-A643-F6ABAB05DA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What to submit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8229600" cy="506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will need many things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comm letters, Resume, papers, proposals, reviews, letters from students, class notes, exams, student evaluations, projects, letters from Editors, Prog. Mng. etc. …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o keep them organized (possibly onlin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ou will write a self-evaluation or summar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efend your case by emphasizing your achiev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xplain how you addressed concerns in 3</a:t>
            </a:r>
            <a:r>
              <a:rPr b="0" lang="en-US" sz="2600" spc="-1" strike="noStrike" baseline="30000">
                <a:solidFill>
                  <a:srgbClr val="000000"/>
                </a:solidFill>
                <a:latin typeface="Arial"/>
              </a:rPr>
              <a:t>rd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year evaluation or early failures in teaching etc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tate your plans for futur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7A46D-477C-4786-BFBB-AEDBC9F1EED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How do they evaluate?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w do you accept or reject a pap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ook at it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overall,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en justify your decision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ost cases are in a grey area, s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look at the overall case and other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n they see how they want to se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e careful when you include or say some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they want, they can use it against or for yo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Your department (evaluators) are not monst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want you to get ten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ey hired you, your success is thei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 help th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A28AF-6859-4570-92C8-6802063DB5D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5"/>
          <p:cNvSpPr/>
          <p:nvPr/>
        </p:nvSpPr>
        <p:spPr>
          <a:xfrm>
            <a:off x="-88920" y="2549520"/>
            <a:ext cx="1905120" cy="82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Facul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FRAC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7"/>
          <p:cNvSpPr/>
          <p:nvPr/>
        </p:nvSpPr>
        <p:spPr>
          <a:xfrm>
            <a:off x="1316160" y="2436840"/>
            <a:ext cx="234144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artment Ch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9"/>
          <p:cNvSpPr/>
          <p:nvPr/>
        </p:nvSpPr>
        <p:spPr>
          <a:xfrm>
            <a:off x="3240000" y="1835280"/>
            <a:ext cx="135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1"/>
          <p:cNvSpPr/>
          <p:nvPr/>
        </p:nvSpPr>
        <p:spPr>
          <a:xfrm>
            <a:off x="4495680" y="1449360"/>
            <a:ext cx="12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3"/>
          <p:cNvSpPr/>
          <p:nvPr/>
        </p:nvSpPr>
        <p:spPr>
          <a:xfrm>
            <a:off x="6156360" y="9669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FRA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7696080" y="78264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os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Box 17"/>
          <p:cNvSpPr/>
          <p:nvPr/>
        </p:nvSpPr>
        <p:spPr>
          <a:xfrm>
            <a:off x="7848720" y="32400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si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0" descr=""/>
          <p:cNvPicPr/>
          <p:nvPr/>
        </p:nvPicPr>
        <p:blipFill>
          <a:blip r:embed="rId1"/>
          <a:stretch/>
        </p:blipFill>
        <p:spPr>
          <a:xfrm>
            <a:off x="128520" y="3333600"/>
            <a:ext cx="1700280" cy="58294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22" descr=""/>
          <p:cNvPicPr/>
          <p:nvPr/>
        </p:nvPicPr>
        <p:blipFill>
          <a:blip r:embed="rId2"/>
          <a:stretch/>
        </p:blipFill>
        <p:spPr>
          <a:xfrm>
            <a:off x="1708200" y="3027240"/>
            <a:ext cx="1581120" cy="22305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24" descr=""/>
          <p:cNvPicPr/>
          <p:nvPr/>
        </p:nvPicPr>
        <p:blipFill>
          <a:blip r:embed="rId3"/>
          <a:stretch/>
        </p:blipFill>
        <p:spPr>
          <a:xfrm>
            <a:off x="3129120" y="2462040"/>
            <a:ext cx="1581120" cy="22305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6" descr=""/>
          <p:cNvPicPr/>
          <p:nvPr/>
        </p:nvPicPr>
        <p:blipFill>
          <a:blip r:embed="rId4"/>
          <a:stretch/>
        </p:blipFill>
        <p:spPr>
          <a:xfrm>
            <a:off x="4587840" y="2055960"/>
            <a:ext cx="1581120" cy="2232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8" descr=""/>
          <p:cNvPicPr/>
          <p:nvPr/>
        </p:nvPicPr>
        <p:blipFill>
          <a:blip r:embed="rId5"/>
          <a:stretch/>
        </p:blipFill>
        <p:spPr>
          <a:xfrm>
            <a:off x="6006960" y="1652760"/>
            <a:ext cx="1581120" cy="22302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30" descr=""/>
          <p:cNvPicPr/>
          <p:nvPr/>
        </p:nvPicPr>
        <p:blipFill>
          <a:blip r:embed="rId6"/>
          <a:stretch/>
        </p:blipFill>
        <p:spPr>
          <a:xfrm>
            <a:off x="7424640" y="1249200"/>
            <a:ext cx="1581120" cy="2230560"/>
          </a:xfrm>
          <a:prstGeom prst="rect">
            <a:avLst/>
          </a:prstGeom>
          <a:ln w="0">
            <a:noFill/>
          </a:ln>
        </p:spPr>
      </p:pic>
      <p:sp>
        <p:nvSpPr>
          <p:cNvPr id="116" name="TextBox 31"/>
          <p:cNvSpPr/>
          <p:nvPr/>
        </p:nvSpPr>
        <p:spPr>
          <a:xfrm>
            <a:off x="1596960" y="5029200"/>
            <a:ext cx="754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              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0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 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 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                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    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          1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b050"/>
                </a:solidFill>
                <a:latin typeface="Arial"/>
              </a:rPr>
              <a:t>    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32"/>
          <p:cNvSpPr/>
          <p:nvPr/>
        </p:nvSpPr>
        <p:spPr>
          <a:xfrm>
            <a:off x="-152280" y="-249120"/>
            <a:ext cx="2689200" cy="299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#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q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ind p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$ gra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gradua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34"/>
          <p:cNvSpPr/>
          <p:nvPr/>
        </p:nvSpPr>
        <p:spPr>
          <a:xfrm>
            <a:off x="1228680" y="-257040"/>
            <a:ext cx="2689200" cy="16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ev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new cour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# phd, 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6"/>
          <p:cNvSpPr/>
          <p:nvPr/>
        </p:nvSpPr>
        <p:spPr>
          <a:xfrm>
            <a:off x="3174840" y="-20520"/>
            <a:ext cx="2652840" cy="14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Dept.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llege. U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fess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General Advices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6F7B7-C1A8-41A1-95DC-06D6EE5F5503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Ad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cused study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 develop a good idea, you don’t need much time, you need quality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o many distractions </a:t>
            </a:r>
            <a:r>
              <a:rPr b="0" lang="en-US" sz="2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non-productiv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overload yourself with unnecessary work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ioritize, it’s easy to postpone (and never do) researc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gnore email, no surf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Read papers + form paper reading groups/semina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t’s how you usually come up with idea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will learn the common sty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5048E-6CD6-4CBC-9077-904A45FE64E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Ad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1840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lways have a bigger vi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n’t depend too much on oth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sor, collaborators, students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 a good job on your ow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ershi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joy what you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’t do what you don’t enjo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ood for motivation/productivity – no well-defined task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658BAA-E5EF-4206-909B-AF326AEE38DC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Ad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ocument everything that is important to yo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aper revie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ty/public servic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dvising and other voluntary work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municate in written form or in e-mail for all your important issues and keep your e-mail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01972-F410-44CB-9C20-F9C86699EA4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General Advice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ave a healthy personal &amp; social life!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ad other boo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stress. Pleas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s is supposed to be an enjoyable job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now your priorit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arn how to say ‘NO!’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n't overwork, don't overload your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5 years of normal work should suffice for tenu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orkaholic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l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29640" indent="-305640">
              <a:lnSpc>
                <a:spcPct val="8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Getting tenure is not everyth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53C3B-5CBE-4ABA-9AFE-877245929FAB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Final Word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se were just some informal ideas that might help you better shape your though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hat works for someone may not work for yo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e all learn by personal experie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llow your instincts, common-sen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 advice is better than th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Slide Number Placeholder 1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EE335-5FF7-4598-BF57-DC20F31904D1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2"/>
          <p:cNvSpPr/>
          <p:nvPr/>
        </p:nvSpPr>
        <p:spPr>
          <a:xfrm>
            <a:off x="-457200" y="5410080"/>
            <a:ext cx="922032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searc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etters,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# pub, q pub, ind pub, $ grant, citation, graduate student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3"/>
          <p:cNvSpPr/>
          <p:nvPr/>
        </p:nvSpPr>
        <p:spPr>
          <a:xfrm rot="16200000">
            <a:off x="-2263320" y="3025440"/>
            <a:ext cx="6238800" cy="8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student eval, new courses, # phd, ms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Teach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Straight Arrow Connector 5"/>
          <p:cNvCxnSpPr/>
          <p:nvPr/>
        </p:nvCxnSpPr>
        <p:spPr>
          <a:xfrm flipV="1">
            <a:off x="972720" y="5410080"/>
            <a:ext cx="7790760" cy="76680"/>
          </a:xfrm>
          <a:prstGeom prst="straightConnector1">
            <a:avLst/>
          </a:prstGeom>
          <a:ln w="25560">
            <a:solidFill>
              <a:srgbClr val="327327"/>
            </a:solidFill>
            <a:miter/>
            <a:tailEnd len="med" type="triangle" w="med"/>
          </a:ln>
        </p:spPr>
      </p:cxnSp>
      <p:cxnSp>
        <p:nvCxnSpPr>
          <p:cNvPr id="124" name="Straight Arrow Connector 6"/>
          <p:cNvCxnSpPr/>
          <p:nvPr/>
        </p:nvCxnSpPr>
        <p:spPr>
          <a:xfrm flipV="1">
            <a:off x="1125360" y="456480"/>
            <a:ext cx="84960" cy="5182200"/>
          </a:xfrm>
          <a:prstGeom prst="straightConnector1">
            <a:avLst/>
          </a:prstGeom>
          <a:ln w="25560">
            <a:solidFill>
              <a:srgbClr val="327327"/>
            </a:solidFill>
            <a:miter/>
            <a:tailEnd len="med" type="triangle" w="med"/>
          </a:ln>
        </p:spPr>
      </p:cxnSp>
      <p:sp>
        <p:nvSpPr>
          <p:cNvPr id="125" name="Rectangle 8"/>
          <p:cNvSpPr/>
          <p:nvPr/>
        </p:nvSpPr>
        <p:spPr>
          <a:xfrm>
            <a:off x="1295280" y="1600200"/>
            <a:ext cx="3810240" cy="3733920"/>
          </a:xfrm>
          <a:prstGeom prst="rect">
            <a:avLst/>
          </a:prstGeom>
          <a:gradFill rotWithShape="0">
            <a:gsLst>
              <a:gs pos="0">
                <a:srgbClr val="a00000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4343400" y="690480"/>
            <a:ext cx="3886200" cy="3424320"/>
          </a:xfrm>
          <a:prstGeom prst="rect">
            <a:avLst/>
          </a:prstGeom>
          <a:gradFill rotWithShape="0">
            <a:gsLst>
              <a:gs pos="0">
                <a:srgbClr val="3d7732"/>
              </a:gs>
              <a:gs pos="100000">
                <a:srgbClr val="6dce5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Freeform: Shape 12"/>
          <p:cNvSpPr/>
          <p:nvPr/>
        </p:nvSpPr>
        <p:spPr>
          <a:xfrm>
            <a:off x="2544840" y="1092240"/>
            <a:ext cx="4782960" cy="3992400"/>
          </a:xfrm>
          <a:custGeom>
            <a:avLst/>
            <a:gdLst/>
            <a:ahLst/>
            <a:rect l="l" t="t" r="r" b="b"/>
            <a:pathLst>
              <a:path w="4783841" h="3993117">
                <a:moveTo>
                  <a:pt x="303939" y="0"/>
                </a:moveTo>
                <a:cubicBezTo>
                  <a:pt x="293132" y="17291"/>
                  <a:pt x="130682" y="274294"/>
                  <a:pt x="119743" y="302607"/>
                </a:cubicBezTo>
                <a:lnTo>
                  <a:pt x="7910" y="592058"/>
                </a:lnTo>
                <a:cubicBezTo>
                  <a:pt x="5717" y="620564"/>
                  <a:pt x="-3369" y="649375"/>
                  <a:pt x="1331" y="677577"/>
                </a:cubicBezTo>
                <a:cubicBezTo>
                  <a:pt x="9998" y="729578"/>
                  <a:pt x="23803" y="781728"/>
                  <a:pt x="47380" y="828881"/>
                </a:cubicBezTo>
                <a:cubicBezTo>
                  <a:pt x="73850" y="881820"/>
                  <a:pt x="172659" y="928457"/>
                  <a:pt x="218419" y="940714"/>
                </a:cubicBezTo>
                <a:cubicBezTo>
                  <a:pt x="302347" y="963195"/>
                  <a:pt x="474978" y="986763"/>
                  <a:pt x="474978" y="986763"/>
                </a:cubicBezTo>
                <a:cubicBezTo>
                  <a:pt x="656981" y="984570"/>
                  <a:pt x="839009" y="976445"/>
                  <a:pt x="1020986" y="980184"/>
                </a:cubicBezTo>
                <a:cubicBezTo>
                  <a:pt x="1159382" y="983028"/>
                  <a:pt x="1297922" y="990555"/>
                  <a:pt x="1435426" y="1006498"/>
                </a:cubicBezTo>
                <a:cubicBezTo>
                  <a:pt x="1451134" y="1008319"/>
                  <a:pt x="1474897" y="1032812"/>
                  <a:pt x="1474897" y="1032812"/>
                </a:cubicBezTo>
                <a:cubicBezTo>
                  <a:pt x="1477090" y="1052547"/>
                  <a:pt x="1481475" y="1072161"/>
                  <a:pt x="1481475" y="1092018"/>
                </a:cubicBezTo>
                <a:cubicBezTo>
                  <a:pt x="1481475" y="1257586"/>
                  <a:pt x="1480613" y="1251077"/>
                  <a:pt x="1468319" y="1361733"/>
                </a:cubicBezTo>
                <a:cubicBezTo>
                  <a:pt x="1472704" y="1383661"/>
                  <a:pt x="1470207" y="1408201"/>
                  <a:pt x="1481475" y="1427517"/>
                </a:cubicBezTo>
                <a:cubicBezTo>
                  <a:pt x="1487425" y="1437717"/>
                  <a:pt x="1502573" y="1441264"/>
                  <a:pt x="1514367" y="1440674"/>
                </a:cubicBezTo>
                <a:cubicBezTo>
                  <a:pt x="1635318" y="1434627"/>
                  <a:pt x="1755576" y="1418746"/>
                  <a:pt x="1876180" y="1407782"/>
                </a:cubicBezTo>
                <a:cubicBezTo>
                  <a:pt x="2062288" y="1352638"/>
                  <a:pt x="2120285" y="1325867"/>
                  <a:pt x="2336670" y="1315684"/>
                </a:cubicBezTo>
                <a:lnTo>
                  <a:pt x="2612963" y="1328841"/>
                </a:lnTo>
                <a:cubicBezTo>
                  <a:pt x="2621734" y="1337612"/>
                  <a:pt x="2632895" y="1344517"/>
                  <a:pt x="2639277" y="1355154"/>
                </a:cubicBezTo>
                <a:cubicBezTo>
                  <a:pt x="2669268" y="1405138"/>
                  <a:pt x="2649869" y="1516826"/>
                  <a:pt x="2645855" y="1545928"/>
                </a:cubicBezTo>
                <a:cubicBezTo>
                  <a:pt x="2643845" y="1560500"/>
                  <a:pt x="2632341" y="1572069"/>
                  <a:pt x="2626120" y="1585399"/>
                </a:cubicBezTo>
                <a:cubicBezTo>
                  <a:pt x="2577817" y="1688907"/>
                  <a:pt x="2626766" y="1602720"/>
                  <a:pt x="2553757" y="1703810"/>
                </a:cubicBezTo>
                <a:cubicBezTo>
                  <a:pt x="2489895" y="1792234"/>
                  <a:pt x="2535222" y="1731100"/>
                  <a:pt x="2487973" y="1822222"/>
                </a:cubicBezTo>
                <a:cubicBezTo>
                  <a:pt x="2467188" y="1862306"/>
                  <a:pt x="2441777" y="1899951"/>
                  <a:pt x="2422189" y="1940633"/>
                </a:cubicBezTo>
                <a:cubicBezTo>
                  <a:pt x="2410442" y="1965030"/>
                  <a:pt x="2402785" y="1998514"/>
                  <a:pt x="2395875" y="2026153"/>
                </a:cubicBezTo>
                <a:cubicBezTo>
                  <a:pt x="2402454" y="2050274"/>
                  <a:pt x="2396924" y="2081905"/>
                  <a:pt x="2415611" y="2098515"/>
                </a:cubicBezTo>
                <a:cubicBezTo>
                  <a:pt x="2451304" y="2130242"/>
                  <a:pt x="2546780" y="2135774"/>
                  <a:pt x="2593228" y="2137986"/>
                </a:cubicBezTo>
                <a:lnTo>
                  <a:pt x="3205021" y="2164300"/>
                </a:lnTo>
                <a:cubicBezTo>
                  <a:pt x="3234183" y="2174020"/>
                  <a:pt x="3263235" y="2182489"/>
                  <a:pt x="3290540" y="2197192"/>
                </a:cubicBezTo>
                <a:cubicBezTo>
                  <a:pt x="3304463" y="2204689"/>
                  <a:pt x="3316854" y="2214734"/>
                  <a:pt x="3330011" y="2223505"/>
                </a:cubicBezTo>
                <a:cubicBezTo>
                  <a:pt x="3353203" y="2293087"/>
                  <a:pt x="3363855" y="2305681"/>
                  <a:pt x="3323432" y="2407701"/>
                </a:cubicBezTo>
                <a:cubicBezTo>
                  <a:pt x="3294477" y="2480779"/>
                  <a:pt x="3205021" y="2611632"/>
                  <a:pt x="3205021" y="2611632"/>
                </a:cubicBezTo>
                <a:cubicBezTo>
                  <a:pt x="3183093" y="2688380"/>
                  <a:pt x="3136047" y="2762121"/>
                  <a:pt x="3139237" y="2841877"/>
                </a:cubicBezTo>
                <a:cubicBezTo>
                  <a:pt x="3141430" y="2896697"/>
                  <a:pt x="3140356" y="2951745"/>
                  <a:pt x="3145815" y="3006337"/>
                </a:cubicBezTo>
                <a:cubicBezTo>
                  <a:pt x="3146990" y="3018087"/>
                  <a:pt x="3153691" y="3028667"/>
                  <a:pt x="3158972" y="3039229"/>
                </a:cubicBezTo>
                <a:cubicBezTo>
                  <a:pt x="3178802" y="3078889"/>
                  <a:pt x="3192664" y="3099235"/>
                  <a:pt x="3224756" y="3131327"/>
                </a:cubicBezTo>
                <a:cubicBezTo>
                  <a:pt x="3236866" y="3143437"/>
                  <a:pt x="3252116" y="3152109"/>
                  <a:pt x="3264226" y="3164219"/>
                </a:cubicBezTo>
                <a:cubicBezTo>
                  <a:pt x="3280709" y="3180702"/>
                  <a:pt x="3291627" y="3202860"/>
                  <a:pt x="3310275" y="3216846"/>
                </a:cubicBezTo>
                <a:cubicBezTo>
                  <a:pt x="3327552" y="3229804"/>
                  <a:pt x="3350164" y="3233502"/>
                  <a:pt x="3369481" y="3243160"/>
                </a:cubicBezTo>
                <a:cubicBezTo>
                  <a:pt x="3385294" y="3251066"/>
                  <a:pt x="3398915" y="3263432"/>
                  <a:pt x="3415530" y="3269474"/>
                </a:cubicBezTo>
                <a:cubicBezTo>
                  <a:pt x="3447522" y="3281107"/>
                  <a:pt x="3481474" y="3286435"/>
                  <a:pt x="3514206" y="3295787"/>
                </a:cubicBezTo>
                <a:cubicBezTo>
                  <a:pt x="3542884" y="3303981"/>
                  <a:pt x="3571431" y="3312669"/>
                  <a:pt x="3599726" y="3322101"/>
                </a:cubicBezTo>
                <a:cubicBezTo>
                  <a:pt x="3610929" y="3325835"/>
                  <a:pt x="3622056" y="3329977"/>
                  <a:pt x="3632618" y="3335258"/>
                </a:cubicBezTo>
                <a:cubicBezTo>
                  <a:pt x="3639690" y="3338794"/>
                  <a:pt x="3645919" y="3343820"/>
                  <a:pt x="3652353" y="3348415"/>
                </a:cubicBezTo>
                <a:cubicBezTo>
                  <a:pt x="3709471" y="3389213"/>
                  <a:pt x="3651893" y="3350300"/>
                  <a:pt x="3698402" y="3381307"/>
                </a:cubicBezTo>
                <a:cubicBezTo>
                  <a:pt x="3715203" y="3414907"/>
                  <a:pt x="3722964" y="3433148"/>
                  <a:pt x="3751029" y="3466826"/>
                </a:cubicBezTo>
                <a:cubicBezTo>
                  <a:pt x="3783921" y="3506297"/>
                  <a:pt x="3826729" y="3539283"/>
                  <a:pt x="3849706" y="3585238"/>
                </a:cubicBezTo>
                <a:cubicBezTo>
                  <a:pt x="3881076" y="3647981"/>
                  <a:pt x="3842594" y="3577949"/>
                  <a:pt x="3882598" y="3631287"/>
                </a:cubicBezTo>
                <a:cubicBezTo>
                  <a:pt x="3890270" y="3641516"/>
                  <a:pt x="3893292" y="3655138"/>
                  <a:pt x="3902333" y="3664179"/>
                </a:cubicBezTo>
                <a:cubicBezTo>
                  <a:pt x="3924371" y="3686216"/>
                  <a:pt x="3951959" y="3702069"/>
                  <a:pt x="3974696" y="3723384"/>
                </a:cubicBezTo>
                <a:cubicBezTo>
                  <a:pt x="3987190" y="3735097"/>
                  <a:pt x="3994585" y="3751709"/>
                  <a:pt x="4007588" y="3762855"/>
                </a:cubicBezTo>
                <a:cubicBezTo>
                  <a:pt x="4025596" y="3778291"/>
                  <a:pt x="4047058" y="3789168"/>
                  <a:pt x="4066793" y="3802325"/>
                </a:cubicBezTo>
                <a:cubicBezTo>
                  <a:pt x="4073372" y="3806711"/>
                  <a:pt x="4079262" y="3812367"/>
                  <a:pt x="4086529" y="3815482"/>
                </a:cubicBezTo>
                <a:cubicBezTo>
                  <a:pt x="4138951" y="3837950"/>
                  <a:pt x="4116735" y="3829937"/>
                  <a:pt x="4152313" y="3841796"/>
                </a:cubicBezTo>
                <a:cubicBezTo>
                  <a:pt x="4161084" y="3848374"/>
                  <a:pt x="4168161" y="3858261"/>
                  <a:pt x="4178626" y="3861531"/>
                </a:cubicBezTo>
                <a:cubicBezTo>
                  <a:pt x="4204088" y="3869488"/>
                  <a:pt x="4257567" y="3874688"/>
                  <a:pt x="4257567" y="3874688"/>
                </a:cubicBezTo>
                <a:cubicBezTo>
                  <a:pt x="4268531" y="3881266"/>
                  <a:pt x="4278588" y="3889674"/>
                  <a:pt x="4290460" y="3894423"/>
                </a:cubicBezTo>
                <a:cubicBezTo>
                  <a:pt x="4457001" y="3961039"/>
                  <a:pt x="4184051" y="3835889"/>
                  <a:pt x="4356244" y="3914159"/>
                </a:cubicBezTo>
                <a:cubicBezTo>
                  <a:pt x="4369635" y="3920246"/>
                  <a:pt x="4381152" y="3931814"/>
                  <a:pt x="4395714" y="3933894"/>
                </a:cubicBezTo>
                <a:cubicBezTo>
                  <a:pt x="4458816" y="3942909"/>
                  <a:pt x="4522943" y="3942034"/>
                  <a:pt x="4586488" y="3947051"/>
                </a:cubicBezTo>
                <a:cubicBezTo>
                  <a:pt x="4606283" y="3948614"/>
                  <a:pt x="4625959" y="3951436"/>
                  <a:pt x="4645694" y="3953629"/>
                </a:cubicBezTo>
                <a:cubicBezTo>
                  <a:pt x="4652272" y="3955822"/>
                  <a:pt x="4658702" y="3958525"/>
                  <a:pt x="4665429" y="3960207"/>
                </a:cubicBezTo>
                <a:cubicBezTo>
                  <a:pt x="4676276" y="3962919"/>
                  <a:pt x="4687570" y="3963714"/>
                  <a:pt x="4698321" y="3966786"/>
                </a:cubicBezTo>
                <a:cubicBezTo>
                  <a:pt x="4718323" y="3972501"/>
                  <a:pt x="4737792" y="3979942"/>
                  <a:pt x="4757527" y="3986521"/>
                </a:cubicBezTo>
                <a:cubicBezTo>
                  <a:pt x="4779344" y="3993794"/>
                  <a:pt x="4770327" y="3993100"/>
                  <a:pt x="4783841" y="3993100"/>
                </a:cubicBezTo>
              </a:path>
            </a:pathLst>
          </a:custGeom>
          <a:noFill/>
          <a:ln w="25560">
            <a:solidFill>
              <a:srgbClr val="956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Research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541C5-71BA-45CB-A8A3-1D1EBE32EE32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6633"/>
                </a:solidFill>
                <a:latin typeface="Garamond"/>
              </a:rPr>
              <a:t>Are you a good researcher?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ure, after all you have PhD!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t now the questions are:  can you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o/publish research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independen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write proposal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nd obtain </a:t>
            </a:r>
            <a:r>
              <a:rPr b="1" lang="en-US" sz="2600" spc="-1" strike="noStrike" u="sng">
                <a:solidFill>
                  <a:srgbClr val="000000"/>
                </a:solidFill>
                <a:uFillTx/>
                <a:latin typeface="Arial"/>
              </a:rPr>
              <a:t>external fund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d research teams and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dvise/graduate students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llaborate with other researche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4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be known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y the research community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6"/>
          <p:cNvSpPr/>
          <p:nvPr/>
        </p:nvSpPr>
        <p:spPr>
          <a:xfrm>
            <a:off x="655308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B586A0-A6C5-4366-9575-6B231BE451BE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Excellence in Research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lity of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sh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vably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p outl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cus and Depth are import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gularly check your ci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I,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oogle schola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ACM/IEEE Digital Library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dentity – be part of a commun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Quantity of pub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pers after your Ph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out your advi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your students, collaborato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ooks, chapters, etc. can wait after tenure (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epending on fiel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ing (depending on field/are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least one competitive PI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499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significant gra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urgay Korkmaz</cp:lastModifiedBy>
  <dcterms:modified xsi:type="dcterms:W3CDTF">2020-10-31T04:33:06Z</dcterms:modified>
  <cp:revision>2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