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  <p:sldId id="275" r:id="rId29"/>
    <p:sldId id="276" r:id="rId30"/>
    <p:sldId id="277" r:id="rId31"/>
    <p:sldId id="278" r:id="rId32"/>
    <p:sldId id="279" r:id="rId33"/>
    <p:sldId id="280" r:id="rId34"/>
    <p:sldId id="281" r:id="rId35"/>
    <p:sldId id="282" r:id="rId36"/>
    <p:sldId id="283" r:id="rId37"/>
    <p:sldId id="284" r:id="rId38"/>
    <p:sldId id="285" r:id="rId39"/>
    <p:sldId id="286" r:id="rId40"/>
    <p:sldId id="287" r:id="rId41"/>
    <p:sldId id="288" r:id="rId42"/>
    <p:sldId id="289" r:id="rId43"/>
    <p:sldId id="290" r:id="rId44"/>
    <p:sldId id="291" r:id="rId45"/>
    <p:sldId id="292" r:id="rId46"/>
    <p:sldId id="293" r:id="rId47"/>
    <p:sldId id="294" r:id="rId48"/>
    <p:sldId id="295" r:id="rId49"/>
    <p:sldId id="296" r:id="rId50"/>
    <p:sldId id="297" r:id="rId51"/>
    <p:sldId id="298" r:id="rId52"/>
    <p:sldId id="299" r:id="rId53"/>
    <p:sldId id="300" r:id="rId54"/>
    <p:sldId id="301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slide" Target="slides/slide20.xml"/><Relationship Id="rId30" Type="http://schemas.openxmlformats.org/officeDocument/2006/relationships/slide" Target="slides/slide21.xml"/><Relationship Id="rId31" Type="http://schemas.openxmlformats.org/officeDocument/2006/relationships/slide" Target="slides/slide22.xml"/><Relationship Id="rId32" Type="http://schemas.openxmlformats.org/officeDocument/2006/relationships/slide" Target="slides/slide23.xml"/><Relationship Id="rId33" Type="http://schemas.openxmlformats.org/officeDocument/2006/relationships/slide" Target="slides/slide24.xml"/><Relationship Id="rId34" Type="http://schemas.openxmlformats.org/officeDocument/2006/relationships/slide" Target="slides/slide25.xml"/><Relationship Id="rId35" Type="http://schemas.openxmlformats.org/officeDocument/2006/relationships/slide" Target="slides/slide26.xml"/><Relationship Id="rId36" Type="http://schemas.openxmlformats.org/officeDocument/2006/relationships/slide" Target="slides/slide27.xml"/><Relationship Id="rId37" Type="http://schemas.openxmlformats.org/officeDocument/2006/relationships/slide" Target="slides/slide28.xml"/><Relationship Id="rId38" Type="http://schemas.openxmlformats.org/officeDocument/2006/relationships/slide" Target="slides/slide29.xml"/><Relationship Id="rId39" Type="http://schemas.openxmlformats.org/officeDocument/2006/relationships/slide" Target="slides/slide30.xml"/><Relationship Id="rId40" Type="http://schemas.openxmlformats.org/officeDocument/2006/relationships/slide" Target="slides/slide31.xml"/><Relationship Id="rId41" Type="http://schemas.openxmlformats.org/officeDocument/2006/relationships/slide" Target="slides/slide32.xml"/><Relationship Id="rId42" Type="http://schemas.openxmlformats.org/officeDocument/2006/relationships/slide" Target="slides/slide33.xml"/><Relationship Id="rId43" Type="http://schemas.openxmlformats.org/officeDocument/2006/relationships/slide" Target="slides/slide34.xml"/><Relationship Id="rId44" Type="http://schemas.openxmlformats.org/officeDocument/2006/relationships/slide" Target="slides/slide35.xml"/><Relationship Id="rId45" Type="http://schemas.openxmlformats.org/officeDocument/2006/relationships/slide" Target="slides/slide36.xml"/><Relationship Id="rId46" Type="http://schemas.openxmlformats.org/officeDocument/2006/relationships/slide" Target="slides/slide37.xml"/><Relationship Id="rId47" Type="http://schemas.openxmlformats.org/officeDocument/2006/relationships/slide" Target="slides/slide38.xml"/><Relationship Id="rId48" Type="http://schemas.openxmlformats.org/officeDocument/2006/relationships/slide" Target="slides/slide39.xml"/><Relationship Id="rId49" Type="http://schemas.openxmlformats.org/officeDocument/2006/relationships/slide" Target="slides/slide40.xml"/><Relationship Id="rId50" Type="http://schemas.openxmlformats.org/officeDocument/2006/relationships/slide" Target="slides/slide41.xml"/><Relationship Id="rId51" Type="http://schemas.openxmlformats.org/officeDocument/2006/relationships/slide" Target="slides/slide42.xml"/><Relationship Id="rId52" Type="http://schemas.openxmlformats.org/officeDocument/2006/relationships/slide" Target="slides/slide43.xml"/><Relationship Id="rId53" Type="http://schemas.openxmlformats.org/officeDocument/2006/relationships/slide" Target="slides/slide44.xml"/><Relationship Id="rId54" Type="http://schemas.openxmlformats.org/officeDocument/2006/relationships/slide" Target="slides/slide45.xml"/><Relationship Id="rId55" Type="http://schemas.openxmlformats.org/officeDocument/2006/relationships/slide" Target="slides/slide46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dt" idx="2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move the slid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ftr" idx="2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 type="sldNum" idx="2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0B1F8-153D-4568-BD93-D47735F7DA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2070-663E-47E3-84EA-51763715C9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82F5C-78BA-4FE3-84F0-A599D6812C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B19E-586F-4456-8C3B-5A1F993480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62CF-5BD0-4BCF-88A2-780687103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8591-973C-476F-9885-882D1B6C6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250-B8FF-4FA3-84D0-56B0DFC7E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55F15-8CD8-43F3-93FC-87815BC53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6C425-703F-4314-8CF8-98D0CA9E4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CB815-0E40-4909-BF73-39D76227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BE82-7A74-4D55-83ED-61B18F3FB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EA832-FAA8-463D-94BE-1949E46EF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78459-B841-4F60-9173-B92514434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CC949-C41E-4EC1-BA4B-E1084D28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F084E-A776-4224-A0C9-AA6FE4F5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B1B9-F233-4139-ABC7-04224DAB9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5CACB-2FD9-410B-A1AC-3E8CD5B30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D7E3-9C14-4D56-A29E-55D5A077C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99FF4-B435-42D9-B34D-C1CF0B8F0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00B5F-F90E-4545-A04E-D724F9ED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5D6E0-2903-47C5-BDB5-1CFC783DB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CDCA15-03F8-4A6D-BC27-3068ED6A8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2FE0D3-5ABD-4206-A8A5-268386694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3C4F10-DC95-4C01-86EA-F7557ABA8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F32BB8-C801-44C4-8B6A-20D02440C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9AC70D-8317-404F-91DF-D4A992BEF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E746-BFC2-40D6-9BAA-B42DD0B9A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8539B-1C41-4C9C-84D0-29AEA6251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DAFE76-E3F9-4E46-9B69-1B9ABFCE9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A9A824-626E-450F-9C45-DBD99B0EF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7BA93E-B1C3-4EE1-AFD5-EBD3140A6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12D9B-8B52-4C28-8D2E-7AE9B2B01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89D93-5AFF-4275-819F-CA367E0B7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3C109-106B-46B8-9571-3F0562D31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9DECC7-041A-41C7-93D6-C040C3240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64C65B-FA96-4FC8-9A67-07BE8FC57C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1B9ACB-118F-48E7-A935-6D679F5EF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3B58-60D0-412E-A588-B157C0E2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9BA6C1-A63E-44C8-AB84-0BFAFA65C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F9AB30-6656-4185-8135-47D9BCDBE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A1AEF2-D5E2-4045-B259-56B896327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C4D3B-0447-4009-8C8A-D5A180BF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75AE4-F944-4501-8EBE-DAB9E458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F30BF-EBB9-46A9-9A65-42DA7708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9A6790-677F-475C-AF92-B3859393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A668A-DF8A-4399-B0C6-D60B71C23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D1B89E-B9E0-4231-AE14-01453A4A7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A4F014-B974-4531-A175-956CD07D14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E02F7-6FED-4B44-9CFD-E4534146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85F5F7-6C6A-4580-8F9E-0338DA010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3491A-C833-4606-B4EA-A38CC9AE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6A2F13B-1624-4A62-8E9A-842B30B94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9598EA-02CF-4B0F-94C7-D36C1474E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9EA303-3F65-4D2E-9D21-43A14C49C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9452E-5717-4418-8203-2F959C844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6967AC-10C6-4AB8-A559-45473D7D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3C5991-A636-4E99-9947-6ED75428CE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01E729-F3F9-47B2-A67D-318444C4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339496-BA41-41C4-97F6-054AB42D0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1463-8443-40E3-A423-2CBE64328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FB8074-210F-44AC-A7B4-799545F40C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13A033-499C-41A7-852A-4C187FDE2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0952A14-84F5-47F2-9B02-AFDE34C2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8C4775-993E-434C-ADCF-CA0532280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0FA4D-E568-44EE-BE92-A6E322AD1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CF97DF-4F37-47ED-B998-AD02D6C1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D7A13F-4E56-4B36-9562-F749808E3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2D55CC-6C90-414E-8F3C-217CA1846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724C3C-3FA3-4F14-AEB5-2095DAEB1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93A31B-5038-4285-80B7-2D1D5BD7C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27A-5364-4378-844A-B3EE8435F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1412D45-793E-401C-8ED2-B851660B4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2D587-3E01-4A5D-A05E-02851008C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59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0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684035-0577-4AB6-99A5-AC24D4DA0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335C0E-7F7B-44CB-ADAB-D2AAAD227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B3354D-4A94-4D87-88BF-E615045E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EB7CD8-7295-464E-8BE4-61AA7BB37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189DE-B8BA-4112-AABB-18CA91B46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76FA49-58E9-48DF-B782-070549DE7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821880" y="287280"/>
            <a:ext cx="7543800" cy="6719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281D8D-0B5B-4E7D-9311-A2A520404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06AFF9-07A8-47AF-BBCA-7AA428162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7C05-AC3E-4B48-A5C8-287A33E8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04C3BB-6F47-4DCA-ACF2-E753FA267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42DB8F-C48F-403C-A161-14E33776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C7B14-8C45-4257-955C-D74249940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687560" y="394740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781CA7-D41C-4100-AFBA-F49A657DB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7248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5923440" y="184644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8218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7248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5923440" y="3947400"/>
            <a:ext cx="242892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13CA9-49CC-41AE-8BB2-6115CDE8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188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7560" y="1846440"/>
            <a:ext cx="368136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1880" y="3947400"/>
            <a:ext cx="7543800" cy="1918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8D12-DE4D-4DE0-9C26-922D944E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8"/>
          <p:cNvSpPr/>
          <p:nvPr/>
        </p:nvSpPr>
        <p:spPr>
          <a:xfrm>
            <a:off x="0" y="6334200"/>
            <a:ext cx="9144000" cy="666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AE03D-4A8B-4D4C-964C-7D7E5C67D1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Straight Connector 9"/>
          <p:cNvSpPr/>
          <p:nvPr/>
        </p:nvSpPr>
        <p:spPr>
          <a:xfrm>
            <a:off x="895320" y="1738440"/>
            <a:ext cx="747540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744D-81AE-4EEF-944F-ACBB6F4D4AF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Straight Connector 12"/>
          <p:cNvSpPr/>
          <p:nvPr/>
        </p:nvSpPr>
        <p:spPr>
          <a:xfrm>
            <a:off x="906480" y="4343400"/>
            <a:ext cx="74055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66DC7-F1A7-44E7-88F2-789949EB069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95CBF-F03F-4933-97B1-91E287360FCE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0"/>
          <p:cNvSpPr/>
          <p:nvPr/>
        </p:nvSpPr>
        <p:spPr>
          <a:xfrm>
            <a:off x="0" y="0"/>
            <a:ext cx="3038400" cy="68580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3030480" y="0"/>
            <a:ext cx="47520" cy="685800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dt" idx="13"/>
          </p:nvPr>
        </p:nvSpPr>
        <p:spPr>
          <a:xfrm>
            <a:off x="348840" y="6459480"/>
            <a:ext cx="1963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ftr" idx="14"/>
          </p:nvPr>
        </p:nvSpPr>
        <p:spPr>
          <a:xfrm>
            <a:off x="3600360" y="6459480"/>
            <a:ext cx="3486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sldNum" idx="15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63705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69ED3-1AA8-429C-BDFB-8BBBDCA8D60F}" type="slidenum">
              <a:rPr b="0" lang="en-US" sz="1000" spc="-1" strike="noStrike">
                <a:solidFill>
                  <a:srgbClr val="637052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10"/>
          <p:cNvSpPr/>
          <p:nvPr/>
        </p:nvSpPr>
        <p:spPr>
          <a:xfrm>
            <a:off x="0" y="4952880"/>
            <a:ext cx="9142560" cy="190512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0" y="491508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 type="dt" idx="16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 type="ftr" idx="17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 type="sldNum" idx="18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48C8F-2048-4498-BBD5-45154D08E0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10"/>
          <p:cNvSpPr/>
          <p:nvPr/>
        </p:nvSpPr>
        <p:spPr>
          <a:xfrm>
            <a:off x="3240" y="6400800"/>
            <a:ext cx="9140760" cy="457200"/>
          </a:xfrm>
          <a:prstGeom prst="rect">
            <a:avLst/>
          </a:prstGeom>
          <a:solidFill>
            <a:srgbClr val="bd582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Rectangle 11"/>
          <p:cNvSpPr/>
          <p:nvPr/>
        </p:nvSpPr>
        <p:spPr>
          <a:xfrm>
            <a:off x="0" y="6334200"/>
            <a:ext cx="9142560" cy="63360"/>
          </a:xfrm>
          <a:prstGeom prst="rect">
            <a:avLst/>
          </a:prstGeom>
          <a:solidFill>
            <a:srgbClr val="e48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lick to edit the title text forma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1" marL="38268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2" marL="56664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3" marL="749160" indent="-18252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4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5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lvl="6" marL="932040" indent="-1828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000000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dt" idx="19"/>
          </p:nvPr>
        </p:nvSpPr>
        <p:spPr>
          <a:xfrm>
            <a:off x="821880" y="6459480"/>
            <a:ext cx="1854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 type="ftr" idx="20"/>
          </p:nvPr>
        </p:nvSpPr>
        <p:spPr>
          <a:xfrm>
            <a:off x="2765160" y="6459480"/>
            <a:ext cx="361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 type="sldNum" idx="21"/>
          </p:nvPr>
        </p:nvSpPr>
        <p:spPr>
          <a:xfrm>
            <a:off x="7424640" y="6459480"/>
            <a:ext cx="984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CC305-F298-4F50-AF02-3FF26D1F525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chronicle.com/" TargetMode="External"/><Relationship Id="rId2" Type="http://schemas.openxmlformats.org/officeDocument/2006/relationships/hyperlink" Target="http://www.ujobbank.com/" TargetMode="External"/><Relationship Id="rId3" Type="http://schemas.openxmlformats.org/officeDocument/2006/relationships/hyperlink" Target="http://www.ccweek.com/" TargetMode="External"/><Relationship Id="rId4" Type="http://schemas.openxmlformats.org/officeDocument/2006/relationships/hyperlink" Target="http://med.stanford.edu/careercenter/" TargetMode="Externa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sciencecareers.sciencemag.org/" TargetMode="External"/><Relationship Id="rId2" Type="http://schemas.openxmlformats.org/officeDocument/2006/relationships/hyperlink" Target="https://www.mathjobs.org/jobs" TargetMode="External"/><Relationship Id="rId3" Type="http://schemas.openxmlformats.org/officeDocument/2006/relationships/hyperlink" Target="http://www.higheredjobs.org/" TargetMode="External"/><Relationship Id="rId4" Type="http://schemas.openxmlformats.org/officeDocument/2006/relationships/slideLayout" Target="../slideLayouts/slideLayout37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"/>
          <p:cNvSpPr/>
          <p:nvPr/>
        </p:nvSpPr>
        <p:spPr>
          <a:xfrm>
            <a:off x="1219680" y="1504800"/>
            <a:ext cx="695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Finding an Academic Jo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Box 2"/>
          <p:cNvSpPr/>
          <p:nvPr/>
        </p:nvSpPr>
        <p:spPr>
          <a:xfrm>
            <a:off x="2630160" y="3657600"/>
            <a:ext cx="336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mmugul Bul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istant Professor of Mathematic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xas A&amp;M University San Anto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Rectangle 1"/>
          <p:cNvSpPr/>
          <p:nvPr/>
        </p:nvSpPr>
        <p:spPr>
          <a:xfrm>
            <a:off x="2133720" y="23623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8b"/>
                </a:solidFill>
                <a:latin typeface="Open Sans"/>
              </a:rPr>
              <a:t>ACADEMIC DEVELOPMENT AND RESEARCH WORKSH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83f8b"/>
                </a:solidFill>
                <a:latin typeface="Open Sans"/>
              </a:rPr>
              <a:t>NAU, October 31</a:t>
            </a:r>
            <a:r>
              <a:rPr b="1" lang="en-US" sz="2400" spc="-1" strike="noStrike" baseline="30000">
                <a:solidFill>
                  <a:srgbClr val="183f8b"/>
                </a:solidFill>
                <a:latin typeface="Open Sans"/>
              </a:rPr>
              <a:t>st</a:t>
            </a:r>
            <a:r>
              <a:rPr b="1" lang="en-US" sz="2400" spc="-1" strike="noStrike">
                <a:solidFill>
                  <a:srgbClr val="183f8b"/>
                </a:solidFill>
                <a:latin typeface="Open Sans"/>
              </a:rPr>
              <a:t> 20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Different Types of Institu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- Two-years colleges: Heavy teaching load and service expect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- Four-years institutions (Private or State Funded)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search Institutions; Include PhD programs, classified as R1, R2, etc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aching Institutions; liberal art colleges; undergrad research experien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ther types; regional institutions, HSI Colleges, etc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heck university’s mission vision statement, history, etc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Different Types of Jobs Availabl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nure track Assistant Professor Posi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nure track Associate Professor Posi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linical Assistant Professor Posi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ostdoctoral Researcher or Postdoctoral teach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structor, Lectur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djunct professo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pplication Material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- Cover Lett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2-CV or Resum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3- Teaching Portfolio Sec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4-  Personal/research statement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5- Reference Lette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5- Diversity Statement (Not very common, mostly asked in the state of California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Calibri Light"/>
              </a:rPr>
              <a:t>Cover Letter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hat is a Cover Letter?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840960" y="182880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Job Announcement is like a homework assignment provided by a professor and you need to tailor your cover letter accordingly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Make sure you answer the question that is being asked!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he cover letter should align with the CV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hort summary of who/why you are, effectiv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Sections of the Cover Lett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1173240" y="1981080"/>
            <a:ext cx="766584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Contact Informa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Dat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Addressee/Address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d582c"/>
                </a:solidFill>
                <a:uFillTx/>
                <a:latin typeface="Calibri"/>
              </a:rPr>
              <a:t>Salutation</a:t>
            </a:r>
            <a:r>
              <a:rPr b="0" lang="en-US" sz="1800" spc="-1" strike="noStrike">
                <a:solidFill>
                  <a:srgbClr val="bd582c"/>
                </a:solidFill>
                <a:latin typeface="Calibri"/>
              </a:rPr>
              <a:t>: To a specific person, if possible: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582c"/>
                </a:solidFill>
                <a:latin typeface="Calibri"/>
              </a:rPr>
              <a:t>Dear Search Committee Members, Dear Dr. Scott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d582c"/>
                </a:solidFill>
                <a:latin typeface="Calibri"/>
              </a:rPr>
              <a:t>Make sure you write the correct name of the department, job definition you are applying for.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a39b4e"/>
                </a:solidFill>
                <a:uFillTx/>
                <a:latin typeface="Calibri"/>
              </a:rPr>
              <a:t>First Paragraph</a:t>
            </a:r>
            <a:r>
              <a:rPr b="0" lang="en-US" sz="1800" spc="-1" strike="noStrike">
                <a:solidFill>
                  <a:srgbClr val="a39b4e"/>
                </a:solidFill>
                <a:latin typeface="Calibri"/>
              </a:rPr>
              <a:t>: Introduction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ff0000"/>
                </a:solidFill>
                <a:uFillTx/>
                <a:latin typeface="Calibri"/>
              </a:rPr>
              <a:t>Second/Third Paragraph</a:t>
            </a:r>
            <a:r>
              <a:rPr b="0" lang="en-US" sz="1800" spc="-1" strike="noStrike">
                <a:solidFill>
                  <a:srgbClr val="ff0000"/>
                </a:solidFill>
                <a:latin typeface="Calibri"/>
              </a:rPr>
              <a:t>: How you are qualified. Teaching / Research in separate paragraphs. 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b050"/>
                </a:solidFill>
                <a:uFillTx/>
                <a:latin typeface="Calibri"/>
              </a:rPr>
              <a:t>Final Paragraph</a:t>
            </a: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: Closure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Calibri"/>
              </a:rPr>
              <a:t>Sincerely,</a:t>
            </a: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7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Helpful Hints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609120" y="19807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9000"/>
          </a:bodyPr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wo types of cover letter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- Applying research Institution; tailor introduction par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2- Applying to the teaching institutions; emphasize teaching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Use departmental letterhead (if possible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ofrea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ay attention to transition in lett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ake credit for accomplishments and Use “active voice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404040"/>
                </a:solidFill>
                <a:latin typeface="Calibri"/>
              </a:rPr>
              <a:t>I am proud to reveal that I was chosen as a best teaching assistant, etc…..”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89280" indent="-8928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3" descr=""/>
          <p:cNvPicPr/>
          <p:nvPr/>
        </p:nvPicPr>
        <p:blipFill>
          <a:blip r:embed="rId1"/>
          <a:stretch/>
        </p:blipFill>
        <p:spPr>
          <a:xfrm>
            <a:off x="1828800" y="1752480"/>
            <a:ext cx="5334120" cy="392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0" name="Picture 3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629400" cy="452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1" name="Content Placeholder 3" descr=""/>
          <p:cNvPicPr/>
          <p:nvPr/>
        </p:nvPicPr>
        <p:blipFill>
          <a:blip r:embed="rId1"/>
          <a:stretch/>
        </p:blipFill>
        <p:spPr>
          <a:xfrm>
            <a:off x="1523880" y="838080"/>
            <a:ext cx="6078600" cy="470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Picture 2" descr=""/>
          <p:cNvPicPr/>
          <p:nvPr/>
        </p:nvPicPr>
        <p:blipFill>
          <a:blip r:embed="rId1"/>
          <a:stretch/>
        </p:blipFill>
        <p:spPr>
          <a:xfrm>
            <a:off x="228600" y="990720"/>
            <a:ext cx="8763120" cy="43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Calibri Light"/>
              </a:rPr>
              <a:t>The Curriculum Vitae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Sections of a CV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4" name=""/>
          <p:cNvSpPr txBox="1"/>
          <p:nvPr/>
        </p:nvSpPr>
        <p:spPr>
          <a:xfrm>
            <a:off x="4568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Requir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tact Inform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Educ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issert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ellowships/Awar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search Experien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eaching Experien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ublications/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esentation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4652640" y="1599840"/>
            <a:ext cx="40338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Optional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cademic/Community Servi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Calibri"/>
              </a:rPr>
              <a:t>Related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Professional Experien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anguag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search/Teaching Interes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orks in Progres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feren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Helpful Hints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7" name=""/>
          <p:cNvSpPr txBox="1"/>
          <p:nvPr/>
        </p:nvSpPr>
        <p:spPr>
          <a:xfrm>
            <a:off x="609120" y="1980720"/>
            <a:ext cx="8153640" cy="35053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wo types of CV: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1- Applying research Institution; write published papers etc. before the teaching experiences part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2- Applying to the teaching institutions; put teaching experience part first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3- Be consistent in terms of how you line up dates, etc. Prefer starting from the recent publication.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Remember: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nt size matter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ighlight sections sparingl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llow conventions of your fiel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void acronyms (could have it on the research statement only after the introduction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ave others proofread your work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Use professional paper and print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Calibri Light"/>
              </a:rPr>
              <a:t>Research and Teaching Document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alibri Light"/>
              </a:rPr>
              <a:t>Research Statement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68580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Gives an overview of your research (past, current, and future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iscusses relevance to department and universit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clude possible undergraduate research topic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Typically kept at 2 to 3 pag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clude reference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alibri Light"/>
              </a:rPr>
              <a:t>Characteristics of a Teaching Portfolio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Answer what teaching means to you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mprehensive presentation of your teaching skills, goals, and accomplishment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dividualiz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upported by empirical evidenc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alibri Light"/>
              </a:rPr>
              <a:t>Possible Inclusions: Teaching Documentation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582c"/>
                </a:solidFill>
                <a:latin typeface="Calibri"/>
              </a:rPr>
              <a:t>Include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582c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urse inform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Your role in teach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rief overview of your responsibiliti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Brief overview of the function you serv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vidence of teaching developm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4663800" y="1846440"/>
            <a:ext cx="37018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 algn="ctr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582c"/>
                </a:solidFill>
                <a:latin typeface="Calibri"/>
              </a:rPr>
              <a:t>Could attach: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d582c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yllabi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Handouts/other material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pecial teaching aids used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Original evaluation form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Calibri Light"/>
              </a:rPr>
              <a:t>Possible Inclusions: Contributions to the Teaching Profession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69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evelopment of teaching materials or summary of the course that you plan to develop in the future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etters given to you mentioning your teaching skil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Formal award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utside invitations to teach or contribut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821880" y="758880"/>
            <a:ext cx="7543800" cy="3565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262626"/>
                </a:solidFill>
                <a:latin typeface="Calibri Light"/>
              </a:rPr>
              <a:t>Reference Letters</a:t>
            </a:r>
            <a:endParaRPr b="0" lang="en-US" sz="80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Picture 2" descr="The old library now serves as the Mathematics and Statistics Building."/>
          <p:cNvPicPr/>
          <p:nvPr/>
        </p:nvPicPr>
        <p:blipFill>
          <a:blip r:embed="rId1"/>
          <a:stretch/>
        </p:blipFill>
        <p:spPr>
          <a:xfrm>
            <a:off x="2286000" y="2895480"/>
            <a:ext cx="4800600" cy="3200400"/>
          </a:xfrm>
          <a:prstGeom prst="rect">
            <a:avLst/>
          </a:prstGeom>
          <a:ln w="0">
            <a:noFill/>
          </a:ln>
        </p:spPr>
      </p:pic>
      <p:sp>
        <p:nvSpPr>
          <p:cNvPr id="316" name="Down Arrow 1"/>
          <p:cNvSpPr/>
          <p:nvPr/>
        </p:nvSpPr>
        <p:spPr>
          <a:xfrm>
            <a:off x="3733920" y="2666880"/>
            <a:ext cx="152280" cy="1121040"/>
          </a:xfrm>
          <a:prstGeom prst="downArrow">
            <a:avLst>
              <a:gd name="adj1" fmla="val 50000"/>
              <a:gd name="adj2" fmla="val 50066"/>
            </a:avLst>
          </a:prstGeom>
          <a:solidFill>
            <a:srgbClr val="bd582c"/>
          </a:solidFill>
          <a:ln w="15840">
            <a:solidFill>
              <a:srgbClr val="a75f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Rectangle 2" descr=""/>
          <p:cNvPicPr/>
          <p:nvPr/>
        </p:nvPicPr>
        <p:blipFill>
          <a:blip r:embed="rId2"/>
          <a:stretch/>
        </p:blipFill>
        <p:spPr>
          <a:xfrm>
            <a:off x="1676520" y="536400"/>
            <a:ext cx="6400800" cy="17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404040"/>
                </a:solidFill>
                <a:latin typeface="Calibri Light"/>
              </a:rPr>
              <a:t>Tips on Soliciting Recommendations</a:t>
            </a:r>
            <a:endParaRPr b="0" lang="en-US" sz="40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Know what the reference entail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Give referees enough time to compose something thoughtful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stead of asking them if they can provide a “positive” reference, ask a professor who, you think, have a good impression about you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rovide supporting inform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nd thank you letters afterwar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Reference Letter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821880" y="1846440"/>
            <a:ext cx="754380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ave a reference letter from your PhD adviso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ave another reference letter from a different faculty member who knows your research and can elaborate  importance of your research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Have at least one reference letter about your teaching skills.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o not send more reference letters than asked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822240" y="758520"/>
            <a:ext cx="7407360" cy="2746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262626"/>
                </a:solidFill>
                <a:latin typeface="Calibri Light"/>
              </a:rPr>
              <a:t>Recommendations and Resources</a:t>
            </a:r>
            <a:endParaRPr b="0" lang="en-US" sz="72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04040"/>
                </a:solidFill>
                <a:latin typeface="Calibri Light"/>
              </a:rPr>
              <a:t>Helpful Resource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998e3"/>
                </a:solidFill>
                <a:uFillTx/>
                <a:latin typeface="Calibri"/>
                <a:hlinkClick r:id="rId1"/>
              </a:rPr>
              <a:t>http://www.chronicle.com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998e3"/>
                </a:solidFill>
                <a:uFillTx/>
                <a:latin typeface="Calibri"/>
                <a:hlinkClick r:id="rId2"/>
              </a:rPr>
              <a:t>http://www.ujobbank.com</a:t>
            </a:r>
            <a:r>
              <a:rPr b="0" lang="en-US" sz="2800" spc="-1" strike="noStrike">
                <a:solidFill>
                  <a:srgbClr val="637052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998e3"/>
                </a:solidFill>
                <a:uFillTx/>
                <a:latin typeface="Calibri"/>
                <a:hlinkClick r:id="rId3"/>
              </a:rPr>
              <a:t>http://www.ccweek.com</a:t>
            </a:r>
            <a:r>
              <a:rPr b="0" lang="en-US" sz="2800" spc="-1" strike="noStrike">
                <a:solidFill>
                  <a:srgbClr val="637052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2998e3"/>
                </a:solidFill>
                <a:uFillTx/>
                <a:latin typeface="Calibri"/>
                <a:hlinkClick r:id="rId4"/>
              </a:rPr>
              <a:t>http://med.stanford.edu/careercenter/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98e3"/>
                </a:solidFill>
                <a:latin typeface="Calibri"/>
              </a:rPr>
              <a:t>https://theprofessorisin.com/</a:t>
            </a: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-2286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                </a:t>
            </a:r>
            <a:r>
              <a:rPr b="1" lang="en-US" sz="4300" spc="-1" strike="noStrike">
                <a:solidFill>
                  <a:srgbClr val="404040"/>
                </a:solidFill>
                <a:latin typeface="Calibri Light"/>
              </a:rPr>
              <a:t>The Interview</a:t>
            </a: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821880" y="286920"/>
            <a:ext cx="7543800" cy="85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Step by step interview proces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380880" y="1905120"/>
            <a:ext cx="746784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Phone Interview (Usually 6 to 10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earch for the possible interview questions onlin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e excited!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Be confident! 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Interview at the Employment Center during joint meetings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Dress professionally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member the conversation during the phone interview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ampus Interview (usually 3, 4 people are invited)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You are under evaluation even during a very informal convers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04040"/>
                </a:solidFill>
                <a:latin typeface="Garamond"/>
              </a:rPr>
              <a:t>Typical Campus Visit Schedule</a:t>
            </a:r>
            <a:endParaRPr b="0" lang="en-US" sz="32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151920" y="1447920"/>
            <a:ext cx="4343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3000"/>
          </a:bodyPr>
          <a:p>
            <a:pPr marL="154800" indent="-1548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4800" indent="-1548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Garamond"/>
              </a:rPr>
              <a:t>Dinner with Faculty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0920" indent="-1623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Garamond"/>
              </a:rPr>
              <a:t>Informal meeting to ask questions about housing, child care, etc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0920" indent="-1623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Meeting with the search committee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4800" indent="-1548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Meeting with the Dean of the college or chair of the department: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0920" indent="-162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Ask questions regarding faculty expectations, tenure requirements, teaching load, support, etc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4800" indent="-1548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      </a:t>
            </a:r>
            <a:r>
              <a:rPr b="1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Meeting with Provost or Assistant Provost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4800" indent="-1548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Meeting with HR: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4800" indent="-1548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Insurance and benefits, university contribution (%),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4800" indent="-1548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Meet with other faculty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0920" indent="-1623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Depending upon stage of career, your questions should change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0920" indent="-1623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04040"/>
                </a:solidFill>
                <a:uFillTx/>
                <a:latin typeface="Garamond"/>
                <a:ea typeface="Times New Roman"/>
              </a:rPr>
              <a:t>Get a sense for faculty collegiality, stresses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4800" indent="-1548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4800" indent="-1548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  <a:p>
            <a:pPr lvl="1" marL="430920" indent="-1623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0920" indent="-16236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4800" indent="-1548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4419360" y="1371600"/>
            <a:ext cx="4887720" cy="556272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4000"/>
          </a:bodyPr>
          <a:p>
            <a:pPr lvl="1" marL="435600" indent="-163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6600" indent="-1566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Teaching seminar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5600" indent="-163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20-40 minute time slot in an existing course.  Usually on a topic of your choice. 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5600" indent="-163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Engage the students! 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6600" indent="-1566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   </a:t>
            </a:r>
            <a:r>
              <a:rPr b="1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Lunch with Students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5600" indent="-163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Garamond"/>
                <a:ea typeface="Times New Roman"/>
              </a:rPr>
              <a:t>Potential research students; learn more about curriculum; student satisfaction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6600" indent="-1566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040"/>
                </a:solidFill>
                <a:latin typeface="Garamond"/>
              </a:rPr>
              <a:t>Research Seminar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5600" indent="-163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Garamond"/>
              </a:rPr>
              <a:t>45-50 minutes with both students and faculty present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5600" indent="-163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04040"/>
                </a:solidFill>
                <a:uFillTx/>
                <a:latin typeface="Garamond"/>
              </a:rPr>
              <a:t>You can finish in 40 minutes but not exceed 50 minutes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5600" indent="-163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Garamond"/>
              </a:rPr>
              <a:t>Know your audience and pitch it at their level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5600" indent="-163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Garamond"/>
              </a:rPr>
              <a:t>Focus on projects related to what you might do if hired.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6600" indent="-1566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040"/>
                </a:solidFill>
                <a:latin typeface="Garamond"/>
              </a:rPr>
              <a:t>      </a:t>
            </a:r>
            <a:r>
              <a:rPr b="1" lang="en-US" sz="1600" spc="-1" strike="noStrike" u="sng">
                <a:solidFill>
                  <a:srgbClr val="404040"/>
                </a:solidFill>
                <a:uFillTx/>
                <a:latin typeface="Garamond"/>
              </a:rPr>
              <a:t>Round Table Discussion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5600" indent="-163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04040"/>
                </a:solidFill>
                <a:uFillTx/>
                <a:latin typeface="Garamond"/>
              </a:rPr>
              <a:t>Can you get the questions ahead of time?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5600" indent="-163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04040"/>
                </a:solidFill>
                <a:uFillTx/>
                <a:latin typeface="Garamond"/>
              </a:rPr>
              <a:t>Your chance to discuss what you might teach and how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5600" indent="-163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404040"/>
                </a:solidFill>
                <a:uFillTx/>
                <a:latin typeface="Garamond"/>
              </a:rPr>
              <a:t>Further explanation of research requirements and plans</a:t>
            </a: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lvl="1" marL="435600" indent="-163800">
              <a:lnSpc>
                <a:spcPct val="80000"/>
              </a:lnSpc>
              <a:spcBef>
                <a:spcPts val="201"/>
              </a:spcBef>
              <a:spcAft>
                <a:spcPts val="400"/>
              </a:spcAft>
              <a:buClr>
                <a:srgbClr val="e48312"/>
              </a:buClr>
              <a:buFont typeface="Calibri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156600" indent="-15660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Presentations are important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pic>
        <p:nvPicPr>
          <p:cNvPr id="385" name="Content Placeholder 4" descr=""/>
          <p:cNvPicPr/>
          <p:nvPr/>
        </p:nvPicPr>
        <p:blipFill>
          <a:blip r:embed="rId1"/>
          <a:stretch/>
        </p:blipFill>
        <p:spPr>
          <a:xfrm>
            <a:off x="1600200" y="1843200"/>
            <a:ext cx="2384280" cy="402264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 txBox="1"/>
          <p:nvPr/>
        </p:nvSpPr>
        <p:spPr>
          <a:xfrm>
            <a:off x="4663800" y="1846440"/>
            <a:ext cx="37018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87" name="Picture 5" descr=""/>
          <p:cNvPicPr/>
          <p:nvPr/>
        </p:nvPicPr>
        <p:blipFill>
          <a:blip r:embed="rId2"/>
          <a:stretch/>
        </p:blipFill>
        <p:spPr>
          <a:xfrm>
            <a:off x="4952880" y="1873080"/>
            <a:ext cx="2565360" cy="401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Suggested Books Onlin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22240" y="184644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0" name=""/>
          <p:cNvSpPr txBox="1"/>
          <p:nvPr/>
        </p:nvSpPr>
        <p:spPr>
          <a:xfrm>
            <a:off x="3352680" y="2590920"/>
            <a:ext cx="370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pic>
        <p:nvPicPr>
          <p:cNvPr id="391" name="Picture 4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3243240" cy="40780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5" descr=""/>
          <p:cNvPicPr/>
          <p:nvPr/>
        </p:nvPicPr>
        <p:blipFill>
          <a:blip r:embed="rId2"/>
          <a:stretch/>
        </p:blipFill>
        <p:spPr>
          <a:xfrm>
            <a:off x="4495680" y="1736640"/>
            <a:ext cx="2922840" cy="41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Until you get a formal off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822240" y="1846440"/>
            <a:ext cx="7483680" cy="40226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Keep applying for jobs!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Otherwise, you can lose your motivation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TextBox 1"/>
          <p:cNvSpPr/>
          <p:nvPr/>
        </p:nvSpPr>
        <p:spPr>
          <a:xfrm>
            <a:off x="914400" y="990720"/>
            <a:ext cx="66294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ing (When to apply a job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ver Let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urriculum Vitae (C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earch and Teaching Docu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ference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Rectangle 2" descr=""/>
          <p:cNvPicPr/>
          <p:nvPr/>
        </p:nvPicPr>
        <p:blipFill>
          <a:blip r:embed="rId1"/>
          <a:stretch/>
        </p:blipFill>
        <p:spPr>
          <a:xfrm>
            <a:off x="822240" y="914400"/>
            <a:ext cx="6035760" cy="12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Components of an Offer Letter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9907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Job titl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tart date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ength of contract and renewal information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enure details (beginning/ending, requirements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ourse load and graduate assistant info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quipment and budget detail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alar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Deadline to reply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821880" y="287280"/>
            <a:ext cx="7543800" cy="1449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When to Negotiate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6858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040"/>
                </a:solidFill>
                <a:latin typeface="Calibri"/>
              </a:rPr>
              <a:t>After </a:t>
            </a: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you receive a formal off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en your gathering of information tells you that your skills and the average offer/range are better than the off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When you feel comfortable doing so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9" name="Rectangle 3"/>
          <p:cNvSpPr/>
          <p:nvPr/>
        </p:nvSpPr>
        <p:spPr>
          <a:xfrm>
            <a:off x="4800600" y="152280"/>
            <a:ext cx="4572000" cy="970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66680" indent="-1666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Garamond"/>
              </a:rPr>
              <a:t>Do Not</a:t>
            </a:r>
            <a:r>
              <a:rPr b="0" lang="en-US" sz="2400" spc="-1" strike="noStrike">
                <a:solidFill>
                  <a:srgbClr val="404040"/>
                </a:solidFill>
                <a:latin typeface="Garamond"/>
              </a:rPr>
              <a:t> bring up salary or start-up prior to receiving an offer from the colleg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380880" y="-730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Calibri Light"/>
              </a:rPr>
              <a:t>Negotiable Items for Academic Jobs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1" name=""/>
          <p:cNvSpPr txBox="1"/>
          <p:nvPr/>
        </p:nvSpPr>
        <p:spPr>
          <a:xfrm>
            <a:off x="685440" y="1066680"/>
            <a:ext cx="8839080" cy="51818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alary/benefit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Teaching load (one year off, possibly team teaching …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tart-up money (lump-sum if possible, no time limit …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ssistance with spousal employment (Two body problem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arly/delayed tenure option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Starting date/time to consider off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Lab facilities/office space 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ccess to equipment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Moving expenses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11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0744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Calibri Light"/>
              </a:rPr>
              <a:t>The Negotiation Process: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 fontScale="97000"/>
          </a:bodyPr>
          <a:p>
            <a:pPr marL="87480" indent="-87480">
              <a:lnSpc>
                <a:spcPct val="12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Express your pleasure at receiving the off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12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Clarify aspects of the offer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13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404040"/>
                </a:solidFill>
                <a:uFillTx/>
                <a:latin typeface="Calibri"/>
              </a:rPr>
              <a:t>Explain your position and reasons for negotiating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Negotiate through the phone first, then send an e-mail includes negotiation items.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  <a:p>
            <a:pPr marL="87480" indent="-87480">
              <a:lnSpc>
                <a:spcPct val="14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Politely ask if they can respond back to you by e-mail (start-up funding example)</a:t>
            </a:r>
            <a:endParaRPr b="0" lang="en-US" sz="2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30492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04040"/>
                </a:solidFill>
                <a:latin typeface="Calibri Light"/>
              </a:rPr>
              <a:t>Final Negotiation Tips:</a:t>
            </a:r>
            <a:endParaRPr b="0" lang="en-US" sz="36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228600" y="914040"/>
            <a:ext cx="876312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n’t mention salary on the interview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Be personabl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Research ahead of time about the institution.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Know the institution - do not press on matters beyond their control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Evaluate the whole package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Don’t bring up your family situation, except if it will make your case for wanting to be in the area (e.g. don’t mention wanting to have more children)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Take everything in and try not to show your real feelings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Don’t sound desperate, but do sound interested </a:t>
            </a:r>
            <a:r>
              <a:rPr b="0" lang="en-US" sz="2200" spc="-1" strike="noStrike">
                <a:solidFill>
                  <a:srgbClr val="404040"/>
                </a:solidFill>
                <a:latin typeface="Calibri"/>
              </a:rPr>
              <a:t>- always thank them for the offer and make positive statements about the job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8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404040"/>
                </a:solidFill>
                <a:uFillTx/>
                <a:latin typeface="Calibri"/>
              </a:rPr>
              <a:t>Ask about</a:t>
            </a:r>
            <a:r>
              <a:rPr b="1" lang="en-US" sz="2200" spc="-1" strike="noStrike">
                <a:solidFill>
                  <a:srgbClr val="404040"/>
                </a:solidFill>
                <a:latin typeface="Calibri"/>
              </a:rPr>
              <a:t>: expectations, tenure, nomination for awards, training grants (grad students), indirect cost (grants), teaching, funding, housing market/preferred neighborhoods </a:t>
            </a:r>
            <a:endParaRPr b="0" lang="en-US" sz="22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404040"/>
                </a:solidFill>
                <a:latin typeface="Calibri Light"/>
              </a:rPr>
              <a:t>After Negotiations</a:t>
            </a:r>
            <a:endParaRPr b="0" lang="en-US" sz="4800" spc="-1" strike="noStrike">
              <a:solidFill>
                <a:srgbClr val="404040"/>
              </a:solidFill>
              <a:latin typeface="Calibri Light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rmAutofit/>
          </a:bodyPr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Receive an amended job offer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Look it over to see that the correct changes have been mad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Sign it and send it back by the deadline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  <a:p>
            <a:pPr marL="90360" indent="-90360">
              <a:lnSpc>
                <a:spcPct val="90000"/>
              </a:lnSpc>
              <a:spcBef>
                <a:spcPts val="1199"/>
              </a:spcBef>
              <a:spcAft>
                <a:spcPts val="201"/>
              </a:spcAft>
              <a:buClr>
                <a:srgbClr val="e48312"/>
              </a:buClr>
              <a:buFont typeface="Calibri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Calibri"/>
              </a:rPr>
              <a:t>Congratulations!  You got a job!</a:t>
            </a:r>
            <a:endParaRPr b="0" lang="en-US" sz="20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br>
              <a:rPr sz="4300"/>
            </a:br>
            <a:r>
              <a:rPr b="0" lang="en-US" sz="4300" spc="-1" strike="noStrike">
                <a:solidFill>
                  <a:srgbClr val="404040"/>
                </a:solidFill>
                <a:latin typeface="Calibri Light"/>
              </a:rPr>
              <a:t>Thanks for Your Participation!</a:t>
            </a:r>
            <a:br>
              <a:rPr sz="4300"/>
            </a:br>
            <a:br>
              <a:rPr sz="4300"/>
            </a:br>
            <a:br>
              <a:rPr sz="4300"/>
            </a:br>
            <a:endParaRPr b="0" lang="en-US" sz="4300" spc="-1" strike="noStrike">
              <a:solidFill>
                <a:srgbClr val="40404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TextBox 1"/>
          <p:cNvSpPr/>
          <p:nvPr/>
        </p:nvSpPr>
        <p:spPr>
          <a:xfrm>
            <a:off x="2666880" y="2666880"/>
            <a:ext cx="406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Tim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Text Box 2"/>
          <p:cNvSpPr/>
          <p:nvPr/>
        </p:nvSpPr>
        <p:spPr>
          <a:xfrm>
            <a:off x="1009440" y="425520"/>
            <a:ext cx="676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E JOB SEARCH CALENDA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3"/>
          <p:cNvSpPr/>
          <p:nvPr/>
        </p:nvSpPr>
        <p:spPr>
          <a:xfrm>
            <a:off x="6401880" y="609588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 Box 4"/>
          <p:cNvSpPr/>
          <p:nvPr/>
        </p:nvSpPr>
        <p:spPr>
          <a:xfrm>
            <a:off x="842760" y="1319040"/>
            <a:ext cx="78692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LY:   Start putting your application package toge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G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Finalize application, job ads begin app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P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ads app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CT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rliest dea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V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ead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y deadlines, interview invitations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N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 invitations, interviews 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EB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s 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RCH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views continue, 2nd vis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IL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d visit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Y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nd visits and negoti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UNE: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b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ectangle 5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Text Box 2"/>
          <p:cNvSpPr/>
          <p:nvPr/>
        </p:nvSpPr>
        <p:spPr>
          <a:xfrm>
            <a:off x="6401880" y="609588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993960" y="2863800"/>
            <a:ext cx="69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M I READY TO APP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Rectangle 6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2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3"/>
          <p:cNvSpPr/>
          <p:nvPr/>
        </p:nvSpPr>
        <p:spPr>
          <a:xfrm>
            <a:off x="1112760" y="609480"/>
            <a:ext cx="696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EN AM I READY TO APPLY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 Box 4"/>
          <p:cNvSpPr/>
          <p:nvPr/>
        </p:nvSpPr>
        <p:spPr>
          <a:xfrm>
            <a:off x="609480" y="1371600"/>
            <a:ext cx="7848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ne good paper or several good papers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need a story. The more unique and ground breaking the higher you can aim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should have spent considerable time thinking about new directions and ideally begun some pilot experiments. Identify new collaborato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your gut. 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f you start to have more ideas than you have time to implement, you are read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y attention to feedback. People should start asking you at meetings- “Are you looking for a job?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Text Box 2"/>
          <p:cNvSpPr/>
          <p:nvPr/>
        </p:nvSpPr>
        <p:spPr>
          <a:xfrm>
            <a:off x="6401880" y="6095880"/>
            <a:ext cx="239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DING A JO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 Box 3"/>
          <p:cNvSpPr/>
          <p:nvPr/>
        </p:nvSpPr>
        <p:spPr>
          <a:xfrm>
            <a:off x="537840" y="2590920"/>
            <a:ext cx="792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OW DO I FIND OUT ABOUT JOB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 Box 4"/>
          <p:cNvSpPr/>
          <p:nvPr/>
        </p:nvSpPr>
        <p:spPr>
          <a:xfrm>
            <a:off x="1522440" y="3355920"/>
            <a:ext cx="619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ttp://www.nature.com/naturejobs/index.ht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5"/>
          <p:cNvSpPr/>
          <p:nvPr/>
        </p:nvSpPr>
        <p:spPr>
          <a:xfrm>
            <a:off x="1542240" y="3841920"/>
            <a:ext cx="531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98e3"/>
                </a:solidFill>
                <a:uFillTx/>
                <a:latin typeface="Arial"/>
                <a:hlinkClick r:id="rId1"/>
              </a:rPr>
              <a:t>http://sciencecareers.sciencemag.org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98e3"/>
                </a:solidFill>
                <a:uFillTx/>
                <a:latin typeface="Arial"/>
                <a:hlinkClick r:id="rId2"/>
              </a:rPr>
              <a:t>https://www.mathjobs.org/jo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2998e3"/>
                </a:solidFill>
                <a:uFillTx/>
                <a:latin typeface="Arial"/>
                <a:hlinkClick r:id="rId3"/>
              </a:rPr>
              <a:t>www.higheredjobs.or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Rectangle 6"/>
          <p:cNvSpPr/>
          <p:nvPr/>
        </p:nvSpPr>
        <p:spPr>
          <a:xfrm>
            <a:off x="304920" y="304920"/>
            <a:ext cx="8534160" cy="6248160"/>
          </a:xfrm>
          <a:prstGeom prst="rect">
            <a:avLst/>
          </a:prstGeom>
          <a:noFill/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3T21:27:31Z</dcterms:created>
  <dc:creator>Samara Reck-Peterson</dc:creator>
  <dc:description/>
  <dc:language>en-US</dc:language>
  <cp:lastModifiedBy>Ummugul Bulut</cp:lastModifiedBy>
  <dcterms:modified xsi:type="dcterms:W3CDTF">2020-10-31T18:49:11Z</dcterms:modified>
  <cp:revision>87</cp:revision>
  <dc:subject/>
  <dc:title>PowerPoint Presentation</dc:title>
</cp:coreProperties>
</file>